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0C8-F329-4C4F-81F0-BEE9B528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90D-F831-4926-B0C6-5415A13B01F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E506-33A6-4172-940B-0DB68BCFC5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5BBA-867C-467A-B194-7F3E53392BA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3C3-3D00-4E6B-83CB-99167C0A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10A-FFD4-4B7B-B04B-61DDA175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ECA-0538-4C3B-8863-6777F69F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FB0-8791-4EE5-B468-8B19B648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3E73-C896-4501-A795-B55F32B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EEED-DA41-42FC-88BE-34FF1D1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EAE8-5D17-427A-812D-A4A94E3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2AC2-2114-4BE2-A0C2-A742340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53B1-50ED-4372-9B00-DD3A56F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83B-A227-4A69-AC5A-3859BC7F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513-6B35-4CB2-A5B4-E754B73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3DB-C26B-41BA-96B7-7331568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202-0897-4B94-B428-B291EACB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799-F25B-44CB-A00E-8C23FDA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2C9-03E7-47E2-8E74-ABD73AA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0C4C-82B9-49E7-B35A-73370DB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1EE6-7342-4F43-BBE8-FD9AE53D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F4D-385E-4726-BE7F-93F9F05B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092-6B8D-43DC-A4C7-AA2E0CC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6C4-9E51-4E2C-9373-1DA2CAC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6C3-4963-4010-9769-E7B44D7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F02-4307-4ACD-BB3F-AF59224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C02-7F95-4842-BF5B-C6CE9FD5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8C0-D332-4EC7-8642-2C2F4847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9AD-99AB-41C3-B290-F9B9E3A3B43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250920" y="3141720"/>
            <a:ext cx="8610480" cy="201600"/>
            <a:chOff x="250920" y="3141720"/>
            <a:chExt cx="8610480" cy="201600"/>
          </a:xfrm>
        </p:grpSpPr>
        <p:sp>
          <p:nvSpPr>
            <p:cNvPr id="48" name="Rectangle 8"/>
            <p:cNvSpPr/>
            <p:nvPr/>
          </p:nvSpPr>
          <p:spPr>
            <a:xfrm>
              <a:off x="250920" y="3141720"/>
              <a:ext cx="2870280" cy="201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3121200" y="314172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5991480" y="3141720"/>
              <a:ext cx="2869920" cy="201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17E-2039-42F6-A31C-83005BA76D9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1442520"/>
            <a:ext cx="8280360" cy="355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AKTUALITĀTES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UBLISKO IEPIRKUMU JOMĀ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IESNIEGUMI PAR 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ĀRTIKAS IEPIRKUMIEM</a:t>
            </a:r>
            <a:br>
              <a:rPr sz="3600"/>
            </a:b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2014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0960" y="464148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epirkumu uzraudzības biro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Agnese Irm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542-0BC2-4CE2-8B29-BCB48465C9E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57140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iesīgs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neizslēgt kandidātu vai pretendentu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iepriekš noslēgtā līguma neizpildes dēļ, tā vietā paredzot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papildu saistību izpildes nodrošinājum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bankas garantija vai apdrošināšana par noteiktu naudas summu) vai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ādus noteikumus, kas kandidātam vai pretendentam padara ekonomiski neizdevīgu iepirkuma līguma vai vispārīgās vienošanās būtisku noteikumu neievērošan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paredzētā avansa maksājuma samazināšana, tā samaksas atlikšana vai atcelšana).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3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panta otrā daļa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291-AF6A-4DFC-A0B2-3FED3D159EB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ūtītājs, pieņemot lēmumu par kandidāta vai pretendenta izslēgšanu no turpmākās dalības iepirkuma procedūrā iepriekš noslēgtā līguma neizpildes dēļ, ņem vērā, cik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būtisks ir pārkāpum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kas pieļauts tā iepirkuma līguma vai vispārīgās vienošanās izpildē, no kā pasūtītājs vienpusēji atkāpies, kā arī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slēdzamā iepirkuma līguma vai vispārīgās vienošanās neizpildes ris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anta ceturtā daļ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3AC-5067-4522-B12D-D499C41E77A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ir tiesīgs piemērot PIL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redzēto kandidātu un pretendentu izslēgšanas nosacījumu, kā arī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otrajā daļā minēto papildu saistību izpildes nodrošinājumu un noteikumus iepriekš noslēgtā līguma neizpildes dēļ,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tikai tad, ja tas šādas tiesības ir paredzējis paziņojumā par līgumu vai iepirkuma procedūras doku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FC7A-3BA5-4CF0-84BC-9DC843E9ED6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Pārejas noteikumu 47.punkts: 2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ļā paredzētais izslēgšanas noteikums piemērojams,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ja pasūtītājs vienpusēji atkāpies no iepirkuma līguma vai vispārīgās vienošanās pēc 31.07.2013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3EC-5862-4C5C-81CC-4E2A7E8EB4E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5840" y="160956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1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pantā paredzētais izslēgšanas noteikums un papildu saistību nodrošinājums vai papildu noteikumi līgumā netiek piemēroti, 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o dienas, kad pasūtītājs vienpusēji atkāpies no iepriekš noslēgtā iepirkuma līguma vai vispārīgās vienošanās, līdz pieteikuma vai piedāvājuma iesniegšanas dienai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r pagājuši 12 mēneši publiska piegādes vai pakalpojumu līguma gadījumā un trīs gadi publiska būvdarbu līguma gadījumā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. (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trešā daļ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4800" y="281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IESNIEGUMU IZSKATĪŠANAS KOMISIJAS PRAKSE</a:t>
            </a:r>
            <a:br>
              <a:rPr sz="4000"/>
            </a:b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PĀRTIKAS IEPIRKUMO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8F48-119A-43AF-9098-20E04E687B3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priekšmeta daļā «baltmaize, rupjmaize» piedāvājumus ar vienādu viszemāko cenu (15410,00 Ls) iesnieguši 2 pret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komisija pieņēmusi lēmumu slēgt līgumu ar to, kurš no abiem pirmais iesniedzis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C3A-CE82-43B1-A67F-4DCA32F8659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sniegumu izskatīšanas komisija (IIK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vērtīgu piedāvājumu gadījumā nav tiesību izvēlēties kā kritēriju piedāvājumu iesniegšanas la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Jāņem vērā PIL 46.panta ceturtā daļa (ja iespēja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811-38A6-47A5-B3F6-6CBA3AAF92B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iepirkuma dokumentos rīcība nav paredzēta, ņem vērā priekšrocības attiecībā uz piedāvājumu kvalitāti, piedāvātajiem līguma izpildes nosacījumiem, kas norāda uz iespēju saņemt izdevīgāku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0B8-778B-4F9A-991B-634EE7A6E336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45.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1) Ja pasūtītājs konstatē, ka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tbilstoši šā likuma 39.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, 40., 41., 42., 43. un 44.panta noteikumiem iesniegtajos dokumentos ietvertā informācija ir neskaidra vai nepilnīg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tas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prasa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lai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gādātājs vai kompetenta institūcija izskaidro vai papildina šajos dokumentos ietverto informāciju.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08B-19A6-459F-B348-E04A56CE651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31CB-CEAA-4FDA-9B0C-F743C66216C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Līgumcenu sliekšņ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Mazo” iepirkumu (Publisko iepirkumu likuma 8.</a:t>
            </a:r>
            <a:r>
              <a:rPr b="0" lang="lv-LV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pants) līgumcenu sliekšņ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piegādēm un pakalpojumiem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000 euro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 </a:t>
            </a: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2 000 e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No 42 000 euro –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pirkuma procedūr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L 45.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3) Piedāvājumu vērtēšanas gaitā pasūtītājs ir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tiesīgs pieprasīt, lai tiek izskaidrota tehniskajā un finanšu piedāvājumā iekļautā informācij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kā arī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esniegti piedāvāto preču paraugi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ja tie nepieciešami preču atbilstības novērtēšanai un pretendents ar tam pieejamiem dokumentiem nevar pasūtītājam pierādīt preču atbilst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811-2AC9-4E19-A512-A163C8156A5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karoni a/l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Italpasta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ekvivalenti», preci nepieciešams saņemt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nebojātā  rūpnīcas iepakojum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AS «Dobeles Dzirnavnieks» makaronus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celofāna iepako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iesniedzēju noraidījis, jo noskaidrojis, ka ražotājs produktus piedāvā kartona kārbā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937-6756-4B71-BFB9-5DE62F443B3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jonēze Brokastu», stikla burkās fasējumā  no 0,45 līdz 0,48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ražotāja «Spilva» majonēzi 500 g fasē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piedāvājumu noraidījis, jo «Spilva» Provansas majonēzi fasē 480 ml burkās un 10 l spaiņ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803-2DD1-4E79-BF55-C40CA762DDC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6880" y="154080"/>
            <a:ext cx="8280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am bija jālūdz iesniedzējam skaidrojums un pierādījumi par piedāvājuma atbilstību, piemēram ražotāja apliecinājums vai preču para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01E-EE78-4E48-9021-34A0F27726B6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8160" y="13032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noraidījis pretendentu, jo tas piedāvājumā nav norādījis minerālūdens ražotāju, nav iekļāvis norādi par augu eļļas un tauku atbilstību MK noteikumiem Nr.172 un nav norādījis šo preču un ražotāju nosauku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93B-798A-4CD7-BBD7-D473B8BDEFB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 : Nav konstatējams, ka iepirkuma dokumentos būtu paredzēti  konkrēti nosacījumi pretendentiem attiecībā uz tehniskajā piedāvājumā iekļaujamās informācijas saturu, piemēram, kāda informācija jānorāda ailē «apraksts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varēja piemērot PIL 45.panta trešo daļ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nformācijas par pretendenta tehniskajā piedāvājumā iekļauto preču un ražotāju nosaukumu pieprasīšana un saņemšana nav uzskatāma par piedāvājuma papildināšan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8B5-2333-425F-90BE-6134913DD204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noraidīts, jo pozīcijā «margarīns ar tauku saturu 40 %, sviestmaižu» piedāvājis margarīnu, augu tauku pastu, tauku saturs ne mazāk kā 40 %,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A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44EE-6BED-4B6E-9FAB-FB6990AC7E0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3400" y="1547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 pārbaudījis infromāciju interneta vietnē www.btn.lv, konstatējot, ka piedāvātais margarīns tiek piedāvāts tikai ar tauku saturu 25 % (par margarīnu ir uzskatāms tikai produkts ar tauku saturu 39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Ja pasūtītājam bija šaubas, tam bija jāvēršas pie iesniedzēja vai preču ražotā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BC3D-2DCE-4623-AC9F-946127B3744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epareizas procedūras izvēl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45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rīkojis iepirkumu Publisko iepirkumu likuma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panta kārtīb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ās iepirkuma daļās uzvarējušo pretendentu piedāvāto līgumcenu summa ir 27 794.64 bez PV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Līgumcenu summa pārsniedz PIL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nta piemērošanas slieksni (līdz 20 000 latu). Iepirkums jāpārtrau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ED79-4445-49BD-8AAC-234DB1B4653B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s dalīts daļās pa pārtikas grupā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ļa un tā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gļi un dārzeņ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na produk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aize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žādi pārtikas produ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9945-7D8F-4B25-91D0-132839315A5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1CA-2DCE-4C2F-B0E6-030269DA237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7748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617840"/>
            <a:ext cx="808524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baude par to, vai kandidāts vai pretendents nav izslēdzams PIL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1., 2.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n 3.punktā paredzēto noziedzīgo nodarījumu un pārkāpumu dēļ, par kuriem tas sodīts Latvijā, un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4. un 5.punktā noteikto faktu dēļ, veicama,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izmantojot Ministru kabineta noteikto informācijas sistē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nformācija iegūstama VRAA uzturētajā Elektronisko iepirkumu sistēm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zslēgšanas noteikumu pārbaudi veic minētajā sistēmā arī «mazajos iepirkumos» (PIL 8.</a:t>
            </a:r>
            <a:r>
              <a:rPr b="1" i="1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 p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apstrīd to, ka grupā «Dažādi pārtikas produkti» iekļautas pozīcijas: sviests, kausēts siers, siers «Krievijas», biezpiena sieriņi, krabīši, saldētas zi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64BC-A094-4BA9-BB7F-74A3B288A00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Kausēts siers, biezpiena sieriņi, sviests nav daudzu piena produktu ražotāju klāstā, nav pamatoti pievienot piena produktu grupai, savukārt siers jāiekļauj piena produktu grup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ldētas zivis, krabīšus nav pamata izdalīt atsevišķā grupā nelielo apjomu dē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615-0B02-4833-9778-CD91BB2FC23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«Pretendenta esošā personāla kvalifikācijas atbilstība MK noteikumiem Nr.409». Maksimālais punktu skaits pretendentam, kura darbinieku kvalifikācija/izglītība ir visaugstākā, izmantojot salīdzināšanas meto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Pasūtītājam nav izpratnes, kāda personāla kvalifikāciju vērtēs (grāmatvedes, tehnisko darbinieku, pakalpojuma sniegšanā iesaistīto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2CD-5AF0-445B-A0B3-C9D8BE5AA6D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– ēdiena gatavošanai paredzēto produktu vai produktu grupu piegāde videi draudzīgā veidā (ne vairāk kā 50 km attālumā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Kritērijs pamatots. Mērķis – samazināt vides piesārņojumu. Tomēr jāparedz detalizētāks vērtēšanas apraksts (kā pārliecināsies, ka produktu piegāde no ražošanas vai izcelsmes vietas, ne tikai no pretendenta, notikusi attāluma robežā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094-70EB-4B7B-A8E3-BDF130779B1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pirkuma priekšmets – pārtikas produktu piegā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sniedzējs apstrīd uzvarētāja cenas pamatotību, jo uzvarētājs iepērk produktus no tiem pašiem vairumtirgotājiem, turklāt uzvarētājam ir tālāks piegādes ceļ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39C8-10E2-4FFB-9E06-FDFA13A6394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Uzvarētāja piedāvātā cena vairākās pozīcijās ir ļoti zema salīdzinājumā ar iesniedzēja piedāvātajām, turklāt iesniedzēja piedāvājums ir ar otro zemāko cenu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Piemēram, 1 kg kausēts siera cena iesniedzējam  3,03 Ls, uzvarētājam – 0,62 L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A18-91E0-4CE1-915D-93C5A892A72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: Pasūtītājam ir jābūt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ārliecinātam, ka piedāvātā cena atbilst tirgus situācijai un nav nepamatoti lēt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 Ja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na atšķiras vairākas reize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, jāpārliecinās, ka konkrēto produktu par  šādu cenu ir iespējams piegādāt, pieprasot pierādījumus, piemēram, pretendentu noslēgtos līgumus ar attiecīgiem preču piegādātājiem vai ražotājiem, to apliecinājumus par piedāvājumā norādīto cenu iespējamī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asūtītājs nav veicis piedāvāto cenu analīzi un nav pārliecinājies par uzvarētāja piedāvājuma atbilstību, lai gan konkrētajā gadījumā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jadzēja rasties šaubām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AB0-CAAE-41A9-A72A-4F49E317D00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3399"/>
                </a:solidFill>
                <a:latin typeface="Arial"/>
              </a:rPr>
              <a:t>Paldies par uzmanību!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03B-94EE-4263-8194-2386118FD8C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i Nr.1516 „Publisko iepirkumu elektronisko izziņu noteikumi” nos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informācijas sistēmu, kurā veicama pārbaude, šīs sistēmas uzturēšanas un izmantošanas kār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ārbaudāmās informācijas apstrādes mērķi un apjo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kārtību, kādā informācijas sistēma saņem un apstrādā informāciju no iestāžu (VID, UR) uzturētajām informācijas sistēm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Ministru kabineta noteiktajā kārtībā iegūst informāci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par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ta pirmās daļas 1., 2. un 3.punktā minētajiem pārkāpumiem un noziedzīgajiem nodarījumiem — no Iekšlietu ministrijas Informācijas centra (Sodu reģist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ar šā panta pirmās daļas 4.punktā minētajiem faktiem — no Uzņēmumu reģist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par šā panta pirmās daļas 5.punktā minēto faktu — no Valsts ieņēmumu dienesta un Latvijas pašvaldīb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C37-5C7D-42D5-9896-A91CBE033E6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E93-5990-4050-96FE-34BBA60EE11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u Nr.1516 „Publisko iepirkumu elektronisko izziņu noteikumi” 14.punk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Ja šo noteikumu 12.punktā minētajā termiņā e-izziņa reģistra nepieejamības dēļ nav saņemta, e-izziņu pieprasa atkārtoti no e-izziņu sistēmas vai nepieciešamo informāciju pieprasa iesniegt attiecīgajam reģistra pārzinim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6CF-1BDF-473C-82A9-59DF448D809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7920" y="165564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(10) Lai pārbaudītu, vai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ārvalstī reģistrēts vai pastāvīgi dzīvojošs kandidāts vai pretendents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nav izslēdzams no dalības iepirkuma procedūrā saskaņā ar šā panta pirmo daļu, pasūtītājs, izņemot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vienpadsmitajā daļā minēto gadījumu, pieprasa, lai kandidāts vai pretendents iesniedz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attiecīgās ārvalsts kompetentās institūcijas izziņu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kas apliecina, ka uz kandidātu vai pretendentu neattiecas šā panta pirmajā daļā noteiktie gadīju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0F7-2536-4924-947D-18D1AC8D73C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 no 01.01.2014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9693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nstatējot nodokļu parād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ormē kandidātu vai pretendentu par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saka termiņu — 10 darbdienas pēc informācijas izsniegšanas vai nosūtīšanas dienas —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konstatēto parādu nomaksai un parādu nomaksas apliecinājuma iesniegšan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rādu neesamību apliecina ar attiecīgās personas vai tās pārstāvja apliecinātu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zdruku no VID EDS vai pašvaldības izziņu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Ja minētais apliecinājums noteiktajā termiņā nav iesniegts, kandidātu vai pretendentu izslēd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BB1-62AC-4431-A39F-1A3BE5E4006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3080" y="11880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4520" y="1523880"/>
            <a:ext cx="777528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iesīgs izslēgt kandidātu vai pretendentu no turpmākās dalības iepirkuma procedūrā</a:t>
            </a: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, ja kandidāts vai pretend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nav pildījis ar šo pasūtītāju noslēgtu iepirkuma līgumu vai vispārīgo vienošan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ādēļ pasūtītājs ir izmantojis iepirkuma līgumā vai vispārīgās vienošanās noteikumos paredzētās tiesības vienpusēji atkāpties no iepirkuma līguma vai vispārīgās vienošanās. (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7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 panta pirmā daļa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26:47Z</dcterms:created>
  <dc:creator>oskars.putans</dc:creator>
  <dc:description/>
  <dc:language>en-US</dc:language>
  <cp:lastModifiedBy>Agnese Irmeja</cp:lastModifiedBy>
  <dcterms:modified xsi:type="dcterms:W3CDTF">2014-03-13T09:56:59Z</dcterms:modified>
  <cp:revision>147</cp:revision>
  <dc:subject/>
  <dc:title>Grozījumi  PUBLISKO IEPIRKUMU LIKUMĀ</dc:title>
</cp:coreProperties>
</file>